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E951-954F-4265-9294-0CC4C82A2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34 1.29 1.20 1.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2A44-5F3D-41BF-B590-89FD3258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53CA-3B02-45A0-AEF0-66294597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A5C7-5A5B-425D-82AB-8EAD4E004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B7E9-15FC-4CAA-AC12-86B1B723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38F3-410A-42BB-85FA-D66D28A5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4C49-B274-4783-8281-6F39FE2A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B14D-DDC2-4B00-A7E4-F274ECDE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8410-63E6-4088-A8A2-90B5BB34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F401-5F31-4EE9-9EB3-6454EB07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FAE9-DF47-4B5A-80CA-C1A3EE3D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C80A-53F7-423E-B37D-92642266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30B0-173E-420D-B495-A9A52BA2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E327-4AD6-449A-AAAD-B4CF27201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fc2c"/>
            </a:gs>
            <a:gs pos="100000">
              <a:srgbClr val="1385e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tion 6.5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actions, Decimals, and Perc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Savannah Green, Alex Voigt, and Libby Goer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each number as a perc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  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  46/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  1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50000">
              <a:srgbClr val="a603ab"/>
            </a:gs>
            <a:gs pos="100000">
              <a:srgbClr val="a603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der each set of numbers from least to grea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  ¼, 0.26, 31%, 2/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¼, 0.26, 2/7, 3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 88%, 91%, 5/6, 0.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71, 5/6, 88%, 9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 1.34, 129%, 1 1/5, 1.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1/5, 129%, 1.34, 1.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51ab"/>
            </a:gs>
            <a:gs pos="50000">
              <a:srgbClr val="ff0000"/>
            </a:gs>
            <a:gs pos="100000">
              <a:srgbClr val="af51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a Percent as a F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05120"/>
            <a:ext cx="137160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/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/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19810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00800" y="19810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905120"/>
            <a:ext cx="20574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5/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1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43200" y="3048120"/>
            <a:ext cx="30481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s a fraction with a denominator of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s a mixed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676160" y="3276720"/>
            <a:ext cx="9903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600200" y="4724280"/>
            <a:ext cx="1752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47242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38680" y="3352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715000" y="58672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5ed"/>
            </a:gs>
            <a:gs pos="50000">
              <a:srgbClr val="00ffff"/>
            </a:gs>
            <a:gs pos="100000">
              <a:srgbClr val="1385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a Percent as a Deci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2.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2%=  2.2/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00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0.0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2819520"/>
            <a:ext cx="327672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s a fraction with a denominator of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 by moving the decimal point left two places.  You may need to write one or more ze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a Number as a Perc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828800"/>
            <a:ext cx="23623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33 =  33/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33.3/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33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1752480"/>
            <a:ext cx="25905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/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/80 = 0.08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0.08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8.7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72360" y="36576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0199" y="10160"/>
                </a:moveTo>
                <a:lnTo>
                  <a:pt x="20199" y="1016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72360" y="3657600"/>
            <a:ext cx="260280" cy="189000"/>
          </a:xfrm>
          <a:custGeom>
            <a:avLst/>
            <a:gdLst/>
            <a:ahLst/>
            <a:rect l="l" t="t" r="r" b="b"/>
            <a:pathLst>
              <a:path w="727" h="525">
                <a:moveTo>
                  <a:pt x="20199" y="10160"/>
                </a:moveTo>
                <a:cubicBezTo>
                  <a:pt x="20199" y="10268"/>
                  <a:pt x="20211" y="10347"/>
                  <a:pt x="20239" y="10402"/>
                </a:cubicBezTo>
                <a:cubicBezTo>
                  <a:pt x="20260" y="10445"/>
                  <a:pt x="20315" y="10468"/>
                  <a:pt x="20360" y="10483"/>
                </a:cubicBezTo>
                <a:cubicBezTo>
                  <a:pt x="20400" y="10470"/>
                  <a:pt x="20434" y="10468"/>
                  <a:pt x="20481" y="10442"/>
                </a:cubicBezTo>
                <a:cubicBezTo>
                  <a:pt x="20513" y="10425"/>
                  <a:pt x="20597" y="10371"/>
                  <a:pt x="20602" y="10362"/>
                </a:cubicBezTo>
                <a:cubicBezTo>
                  <a:pt x="20614" y="10338"/>
                  <a:pt x="20602" y="10097"/>
                  <a:pt x="20602" y="10200"/>
                </a:cubicBezTo>
                <a:cubicBezTo>
                  <a:pt x="20602" y="10301"/>
                  <a:pt x="20618" y="10354"/>
                  <a:pt x="20643" y="10402"/>
                </a:cubicBezTo>
                <a:cubicBezTo>
                  <a:pt x="20666" y="10447"/>
                  <a:pt x="20643" y="10503"/>
                  <a:pt x="20683" y="10523"/>
                </a:cubicBezTo>
                <a:cubicBezTo>
                  <a:pt x="20739" y="10551"/>
                  <a:pt x="20723" y="10566"/>
                  <a:pt x="20723" y="10644"/>
                </a:cubicBezTo>
                <a:cubicBezTo>
                  <a:pt x="20723" y="10657"/>
                  <a:pt x="20723" y="10671"/>
                  <a:pt x="20723" y="10684"/>
                </a:cubicBezTo>
                <a:cubicBezTo>
                  <a:pt x="20819" y="10684"/>
                  <a:pt x="20784" y="10671"/>
                  <a:pt x="20844" y="10603"/>
                </a:cubicBezTo>
                <a:cubicBezTo>
                  <a:pt x="20884" y="10558"/>
                  <a:pt x="20918" y="10501"/>
                  <a:pt x="20925" y="10442"/>
                </a:cubicBezTo>
                <a:cubicBezTo>
                  <a:pt x="20934" y="10364"/>
                  <a:pt x="20925" y="10279"/>
                  <a:pt x="20925" y="10200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rite a percent as a decimal, write the percent as a fraction with a denominator of 100.  Then divide to convert the fraction to a deci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rite a decimal as a percent, rewrite the decimal as a fraction with a denominator of 100.  Then write the fraction as a perc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rite a fraction as a percent, divide to write as a decimal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ering Ration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er the following numbers from least to greatest.  0.35, 2/5, 30%, and 5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5 = 0.40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% = 0.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3% = 0.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%, 0.35, 2/5, 5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ering Ration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students surveyed their English classes asking, “Do you have a pet in your home?” They reported the results as 0.35, 2/5, 30%, and 53%.  Order the results from least to grea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3200400"/>
            <a:ext cx="2362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5  = 0.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%= 0.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= 0.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32004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each fraction or percent as a 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5257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0.30 &lt; 0.35 &lt; 0.40 &lt; 0.53, the numbers in order from least to greatest are 30% &lt; 0.35 &lt; 2/5 &lt; 5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af51a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each percent as a fraction or mixed number in simplest 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  5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  7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  14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9/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/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/1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as a deci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  62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6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9:22:55Z</dcterms:created>
  <dc:creator>Student</dc:creator>
  <dc:description/>
  <dc:language>en-US</dc:language>
  <cp:lastModifiedBy>Student</cp:lastModifiedBy>
  <dcterms:modified xsi:type="dcterms:W3CDTF">2010-03-10T19:07:08Z</dcterms:modified>
  <cp:revision>8</cp:revision>
  <dc:subject/>
  <dc:title>Section 6.5</dc:title>
</cp:coreProperties>
</file>